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51C-2A7F-47A4-8CDB-6499A39C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D8A8-95BA-4A31-8E55-17E85ACE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E1D2-2772-4183-9BFC-23292EAD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018-461F-47D9-A14E-6C24BB8E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4AAD-9589-4388-A777-B7C9F575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EF3-E72F-4B2A-85E0-661880FA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EEA-1BE3-44FF-9B3C-1F8615C4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904D-1E82-4E05-AFBC-5E4B0482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EAED-E107-45F4-B001-F2D2A46C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6E0C-6F9D-442B-97DE-5A68718C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232-A00D-44A4-8919-154B9394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B807-217F-4ED6-BD31-AE30DDAA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A776-9A06-4E5C-94CC-5CFBE1A9112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160020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escriptive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a person, object or idea is describ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nguage, especially  adjectives, used literally and chosen to depict a person, object or idea in such a way as to present their qualities/characteristics accur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26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mag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ensory imag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ensual imag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03640" y="1600200"/>
            <a:ext cx="56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gurative (i.e. not literal) language used to capture a particular mood or create a vivid visual ef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nguage appealing to the five senses of sight, hearing, touch, taste, sm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nguage evoking/appealing to the senses, especially in a sexual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4920" y="162864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im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etaph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erson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43280" y="1600200"/>
            <a:ext cx="5843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age created by making a direct comparison between two objects or ideas using ‘like’, ‘as’, or ‘as if’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louds as fluffy as merin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age created by making a direct comparison between two objects or ideas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meringue clouds floated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age created by attributing human qualities to an inanimate object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e clouds shed bitter t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Walker, Kimberly</cp:lastModifiedBy>
  <dcterms:modified xsi:type="dcterms:W3CDTF">2014-12-17T10:57:20Z</dcterms:modified>
  <cp:revision>52</cp:revision>
  <dc:subject/>
  <dc:title>La Belle Dame Sans Merci</dc:title>
</cp:coreProperties>
</file>